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hamm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5844-BFF6-451A-A99D-2691D486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EC22-42AC-4A43-A508-E10E98A0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579-BE2B-48BC-9D23-FF159A1B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ADDB-EA10-4A87-9FD8-C274D19D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F64-C4C7-48F7-AEDD-DB4FA04D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84A5-6C26-4E4B-99DF-1402B74D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8E3-7941-400D-9519-3077751E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AFA-9924-448C-8E73-1771D69D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2C53-613C-4B36-A289-B456E4EC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6241-FE5F-47AE-B083-659FF843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9858-4581-40BB-A496-52D62E7A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2C4-B3A7-4E1F-A691-C7A723A9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4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6031-B0FC-44B5-BDD9-8617F2C26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4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78544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66"/>
                </a:solidFill>
                <a:latin typeface="Arial"/>
              </a:rPr>
              <a:t>όσος – όση – όσ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l-GR" sz="3600" spc="-1" strike="noStrike">
                <a:solidFill>
                  <a:srgbClr val="000066"/>
                </a:solidFill>
                <a:latin typeface="Arial"/>
              </a:rPr>
              <a:t>όποιος – όποια – όποι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0" lang="el-GR" sz="3600" spc="-1" strike="noStrike">
                <a:solidFill>
                  <a:srgbClr val="000066"/>
                </a:solidFill>
                <a:latin typeface="Arial"/>
              </a:rPr>
              <a:t>ο οποίος – η οποία  - το οποί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66"/>
                </a:solidFill>
                <a:latin typeface="Arial"/>
              </a:rPr>
              <a:t>                             </a:t>
            </a:r>
            <a:r>
              <a:rPr b="0" lang="el-GR" sz="3600" spc="-1" strike="noStrike">
                <a:solidFill>
                  <a:srgbClr val="000066"/>
                </a:solidFill>
                <a:latin typeface="Arial"/>
              </a:rPr>
              <a:t>που – ό,τι ( οτιδήποτ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763640" y="620640"/>
            <a:ext cx="5857920" cy="628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αναφορικές αντωνυμίες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763640" y="620640"/>
            <a:ext cx="5857920" cy="628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αναφορικές αντωνυμίες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4" name="Picture 8" descr="ED_LOGO"/>
          <p:cNvPicPr/>
          <p:nvPr/>
        </p:nvPicPr>
        <p:blipFill>
          <a:blip r:embed="rId1"/>
          <a:stretch/>
        </p:blipFill>
        <p:spPr>
          <a:xfrm>
            <a:off x="0" y="0"/>
            <a:ext cx="1547640" cy="630360"/>
          </a:xfrm>
          <a:prstGeom prst="rect">
            <a:avLst/>
          </a:prstGeom>
          <a:ln w="0">
            <a:noFill/>
          </a:ln>
        </p:spPr>
      </p:pic>
      <p:sp>
        <p:nvSpPr>
          <p:cNvPr id="45" name="5 - TextBox"/>
          <p:cNvSpPr/>
          <p:nvPr/>
        </p:nvSpPr>
        <p:spPr>
          <a:xfrm>
            <a:off x="5214960" y="639612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ΕΛΙΣΑΒΕΤ ΤΣΟΒΑΛΤΖ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2" name="hamm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4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l-GR" sz="3200" spc="-1" strike="noStrike" u="sng">
                <a:solidFill>
                  <a:srgbClr val="ff0000"/>
                </a:solidFill>
                <a:uFillTx/>
                <a:latin typeface="Arial"/>
              </a:rPr>
              <a:t>Π α ρ α δ ε ί γ μ α τ 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Μπορείς να διαλέξεις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339933"/>
                </a:solidFill>
                <a:latin typeface="Arial"/>
              </a:rPr>
              <a:t>όποιο</a:t>
            </a: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βιβλίο σο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αρέσε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Τα λαχανικά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339933"/>
                </a:solidFill>
                <a:latin typeface="Arial"/>
              </a:rPr>
              <a:t>τα οποία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μου αρέσουν πιο πολύ είναι τα φασολάκι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Η εβδομάδα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339933"/>
                </a:solidFill>
                <a:latin typeface="Arial"/>
              </a:rPr>
              <a:t>που</a:t>
            </a:r>
            <a:r>
              <a:rPr b="0" lang="el-GR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μας πέρασε ήταν πολύ κουραστ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339933"/>
                </a:solidFill>
                <a:latin typeface="Arial"/>
              </a:rPr>
              <a:t>Όσα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χρήματα και να με πλήρωναν, δε θα μπορούσα να κάνω αυτό το επάγγελμα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339933"/>
                </a:solidFill>
                <a:latin typeface="Arial"/>
              </a:rPr>
              <a:t>Ό,τι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και να μου πεις, δεν πρόκειται να σε πιστέψ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4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Συμπληρώνω την αναφορική αντωνυμί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που ταιριάζε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Το βιβλίο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διάβασα ήταν πολύ ενδιαφέρο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Μάζεψα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περισσότερα χρήματα μπορούσα, για να αγοράσω μία κιθάρ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Είδα στο δρόμο τη δασκάλα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είχαμε στο Νηπιαγωγεί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835280" y="404640"/>
            <a:ext cx="5689440" cy="93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642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αναφορικές αντωνυμίες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diamond/>
    <p:sndAc>
      <p:stSnd>
        <p:snd r:embed="rId1" name="hamm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4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Συμπληρώνω την αναφορική αντωνυμί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που ταιριάζε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μου απαντήσει στην επόμενη ερώτηση, είναι πολύ καλά διαβασμένο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και να του πρόσφερα, ήταν αδύνατο να τον πείσ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763640" y="620640"/>
            <a:ext cx="5857920" cy="628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αναφορικές αντωνυμίες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diamond/>
    <p:sndAc>
      <p:stSnd>
        <p:snd r:embed="rId1" name="hamm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4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Π Ρ Ο Σ Ο Χ 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Διακρίνουμε την αναφορική αντωνυμία </a:t>
            </a: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πο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(ο οποίος-α-ο ) από το επίρρημα </a:t>
            </a: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πο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φανερώνει τόπο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έβαλες το μολύβι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σου χάρισα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________ χάθηκες τόσον καιρό; Θυμάμαι αυτά _________ μου έλεγες παλιά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hamm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4b9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Π Ρ Ο Σ Ο Χ 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Διακρίνουμε την αναφορική αντωνυμία </a:t>
            </a:r>
            <a:r>
              <a:rPr b="0" i="1" lang="el-GR" sz="3200" spc="-1" strike="noStrike" u="sng">
                <a:solidFill>
                  <a:srgbClr val="000066"/>
                </a:solidFill>
                <a:uFillTx/>
                <a:latin typeface="Arial"/>
              </a:rPr>
              <a:t>ό,τι</a:t>
            </a: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(οτιδήποτε) από τον ειδικό σύνδεσμο</a:t>
            </a:r>
            <a:r>
              <a:rPr b="0" i="1" lang="el-GR" sz="3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i="1" lang="el-GR" sz="3200" spc="-1" strike="noStrike" u="sng">
                <a:solidFill>
                  <a:srgbClr val="000066"/>
                </a:solidFill>
                <a:uFillTx/>
                <a:latin typeface="Arial"/>
              </a:rPr>
              <a:t>ότ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(πως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Μου φαίνεται </a:t>
            </a:r>
            <a:r>
              <a:rPr b="0" lang="el-GR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lang="el-GR" sz="32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 έχεις παρεξηγήσει κάποια πράγματα! Δεν μπορείς να κάνει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l-GR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lang="el-GR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lang="el-GR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lang="el-GR" sz="32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θέλει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Μου δήλωσε </a:t>
            </a:r>
            <a:r>
              <a:rPr b="0" lang="el-GR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 δε θα άλλαζε γνώμη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l-GR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lang="el-GR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lang="el-GR" sz="3200" spc="-1" strike="noStrike" u="sng">
                <a:solidFill>
                  <a:srgbClr val="000066"/>
                </a:solidFill>
                <a:uFillTx/>
                <a:latin typeface="Arial"/>
              </a:rPr>
              <a:t>	</a:t>
            </a:r>
            <a:r>
              <a:rPr b="0" lang="el-GR" sz="32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66"/>
                </a:solidFill>
                <a:latin typeface="Arial"/>
              </a:rPr>
              <a:t>και αν του έλεγ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hamm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4:44:56Z</dcterms:created>
  <dc:creator>Βέτα</dc:creator>
  <dc:description/>
  <dc:language>en-US</dc:language>
  <cp:lastModifiedBy>admin</cp:lastModifiedBy>
  <dcterms:modified xsi:type="dcterms:W3CDTF">2010-11-11T11:36:32Z</dcterms:modified>
  <cp:revision>9</cp:revision>
  <dc:subject/>
  <dc:title>Διαφάνεια 1</dc:title>
</cp:coreProperties>
</file>